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applause.wav" ContentType="audio/x-wav"/>
  <Override PartName="/ppt/media/drumroll.wav" ContentType="audio/x-wav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4DA-8068-4460-AA47-1CFF72A2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A13B-36D6-4DDB-98AD-52AC6D96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B0EA-7E25-4D70-B0AE-A135FEF3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5172-65DD-42CE-9A68-1FF7C8D5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BB76-1F02-41F0-9C35-62AFFA7F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CE09-56B9-419B-9008-EC70D407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42AC-24C0-4AA3-8366-2D196347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40CA-EB42-4483-930C-2DB72461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2533-E39F-4ED9-B03F-0E9FAE2C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45AE-DAFE-443E-95AB-F705D69B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8B68-2C15-4460-9E00-46616803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214F-6CBC-4FB6-A1B0-5DCE7D20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2f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B5BD-38B9-4FA3-9FD4-2BA15E3114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2743200" y="304920"/>
            <a:ext cx="31813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Verb Tens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533520" y="2438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Verb tenses tell us when things hap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80880" y="3809880"/>
            <a:ext cx="8001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vents can happen in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bd05090_"/>
          <p:cNvPicPr/>
          <p:nvPr/>
        </p:nvPicPr>
        <p:blipFill>
          <a:blip r:embed="rId1"/>
          <a:stretch/>
        </p:blipFill>
        <p:spPr>
          <a:xfrm>
            <a:off x="380880" y="304920"/>
            <a:ext cx="1749600" cy="1581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bd04907_"/>
          <p:cNvPicPr/>
          <p:nvPr/>
        </p:nvPicPr>
        <p:blipFill>
          <a:blip r:embed="rId2"/>
          <a:stretch/>
        </p:blipFill>
        <p:spPr>
          <a:xfrm flipH="1">
            <a:off x="6934320" y="228600"/>
            <a:ext cx="193032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457200" y="380880"/>
            <a:ext cx="23623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he P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0" y="1523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his is when an event has already happe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228600" y="3809880"/>
            <a:ext cx="89154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walke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cross to buy some sweets from the sh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shouted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my brother in the playgr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ran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wn the lane with the do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an02347_"/>
          <p:cNvPicPr/>
          <p:nvPr/>
        </p:nvPicPr>
        <p:blipFill>
          <a:blip r:embed="rId1"/>
          <a:stretch/>
        </p:blipFill>
        <p:spPr>
          <a:xfrm>
            <a:off x="5562720" y="2209680"/>
            <a:ext cx="316368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85800" y="457200"/>
            <a:ext cx="27432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he Prese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28600" y="15238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his is when an event is actually happe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0" y="3886200"/>
            <a:ext cx="9144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m walkin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cross to buy some sweets from the sh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m shoutin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my brother in the playgr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m runnin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down the lane with the do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an02347_"/>
          <p:cNvPicPr/>
          <p:nvPr/>
        </p:nvPicPr>
        <p:blipFill>
          <a:blip r:embed="rId1"/>
          <a:stretch/>
        </p:blipFill>
        <p:spPr>
          <a:xfrm>
            <a:off x="3505320" y="2362320"/>
            <a:ext cx="316368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533520" y="304920"/>
            <a:ext cx="27432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he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04920" y="137160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his is when an event has not taken place y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57200" y="34290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3595680"/>
            <a:ext cx="9144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will walk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cross to buy some sweets from the sh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will shou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my brother in the playgr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will ru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down the lane with the do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an02347_"/>
          <p:cNvPicPr/>
          <p:nvPr/>
        </p:nvPicPr>
        <p:blipFill>
          <a:blip r:embed="rId1"/>
          <a:stretch/>
        </p:blipFill>
        <p:spPr>
          <a:xfrm>
            <a:off x="914400" y="2209680"/>
            <a:ext cx="316404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04920" y="6094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ook at each of these sentences and decide what tense it has been written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80880" y="190512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We went for a wal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4114800" y="1752480"/>
            <a:ext cx="838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5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Pa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57200" y="3733920"/>
            <a:ext cx="746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George will rush into school toda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WordArt 7"/>
          <p:cNvSpPr txBox="1"/>
          <p:nvPr/>
        </p:nvSpPr>
        <p:spPr>
          <a:xfrm>
            <a:off x="6629400" y="3276720"/>
            <a:ext cx="1285920" cy="12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9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Futu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457200" y="49528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ity beat United 6-0 last wee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6095880" y="4876920"/>
            <a:ext cx="990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0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Pa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533520" y="68580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Lucy will be driving me to school toda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WordArt 3"/>
          <p:cNvSpPr txBox="1"/>
          <p:nvPr/>
        </p:nvSpPr>
        <p:spPr>
          <a:xfrm>
            <a:off x="7467480" y="533520"/>
            <a:ext cx="981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Futu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3520" y="2133720"/>
            <a:ext cx="8305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 am smelling my supper cooking in the kitche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1905120" y="2514600"/>
            <a:ext cx="1323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Pres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09480" y="4038480"/>
            <a:ext cx="7239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Shelley will be coming for lunch on Sunda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WordArt 7"/>
          <p:cNvSpPr txBox="1"/>
          <p:nvPr/>
        </p:nvSpPr>
        <p:spPr>
          <a:xfrm>
            <a:off x="2057400" y="4343400"/>
            <a:ext cx="1133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Futu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04920" y="68580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an you make the following sentences into the past, the present and the future ten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304920" y="24382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I like going to Manchester with my M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04920" y="3733920"/>
            <a:ext cx="88390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 like going to Manchester with my Mum.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300" spc="-1" strike="noStrike">
                <a:solidFill>
                  <a:srgbClr val="ff0000"/>
                </a:solidFill>
                <a:latin typeface="Comic Sans MS"/>
              </a:rPr>
              <a:t>PRES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 liked going to Manchester with my Mum.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300" spc="-1" strike="noStrike">
                <a:solidFill>
                  <a:srgbClr val="ff0000"/>
                </a:solidFill>
                <a:latin typeface="Comic Sans MS"/>
              </a:rPr>
              <a:t>PAS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 will like going to Manchester with my Mum.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300" spc="-1" strike="noStrike">
                <a:solidFill>
                  <a:srgbClr val="ff0000"/>
                </a:solidFill>
                <a:latin typeface="Comic Sans MS"/>
              </a:rPr>
              <a:t>FUTU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j0078766"/>
          <p:cNvPicPr/>
          <p:nvPr/>
        </p:nvPicPr>
        <p:blipFill>
          <a:blip r:embed="rId1"/>
          <a:stretch/>
        </p:blipFill>
        <p:spPr>
          <a:xfrm>
            <a:off x="0" y="5381640"/>
            <a:ext cx="15033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04920" y="533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 will laugh at the clown in the circ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04920" y="1676520"/>
            <a:ext cx="88390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 am laughing at the clown in the circus.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300" spc="-1" strike="noStrike">
                <a:solidFill>
                  <a:srgbClr val="ff0000"/>
                </a:solidFill>
                <a:latin typeface="Comic Sans MS"/>
              </a:rPr>
              <a:t>PRES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 laughed at the clown in the circus.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300" spc="-1" strike="noStrike">
                <a:solidFill>
                  <a:srgbClr val="ff0000"/>
                </a:solidFill>
                <a:latin typeface="Comic Sans MS"/>
              </a:rPr>
              <a:t>PAS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 will laugh at the clown in the circus.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300" spc="-1" strike="noStrike">
                <a:solidFill>
                  <a:srgbClr val="ff0000"/>
                </a:solidFill>
                <a:latin typeface="Comic Sans MS"/>
              </a:rPr>
              <a:t>FUTU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04920" y="37339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 swam in the pool on Wednesday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04920" y="4724280"/>
            <a:ext cx="88390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 am swimming in the pool on Wednesday.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300" spc="-1" strike="noStrike">
                <a:solidFill>
                  <a:srgbClr val="ff0000"/>
                </a:solidFill>
                <a:latin typeface="Comic Sans MS"/>
              </a:rPr>
              <a:t>PRES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 swam in the pool on Wednesday.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300" spc="-1" strike="noStrike">
                <a:solidFill>
                  <a:srgbClr val="ff0000"/>
                </a:solidFill>
                <a:latin typeface="Comic Sans MS"/>
              </a:rPr>
              <a:t>PAS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 will swim in the pool on Wednesday.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300" spc="-1" strike="noStrike">
                <a:solidFill>
                  <a:srgbClr val="ff0000"/>
                </a:solidFill>
                <a:latin typeface="Comic Sans MS"/>
              </a:rPr>
              <a:t>FUTU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457200" y="609480"/>
            <a:ext cx="8686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memb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Whenever you are writing you should try to stay in the same tense all the way throu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bs00216_"/>
          <p:cNvPicPr/>
          <p:nvPr/>
        </p:nvPicPr>
        <p:blipFill>
          <a:blip r:embed="rId1"/>
          <a:stretch/>
        </p:blipFill>
        <p:spPr>
          <a:xfrm>
            <a:off x="3962520" y="2666880"/>
            <a:ext cx="323208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1T20:22:46Z</dcterms:created>
  <dc:creator>Jo Parkinson</dc:creator>
  <dc:description/>
  <dc:language>en-US</dc:language>
  <cp:lastModifiedBy>Jason Brazeau</cp:lastModifiedBy>
  <dcterms:modified xsi:type="dcterms:W3CDTF">2012-12-02T19:28:07Z</dcterms:modified>
  <cp:revision>20</cp:revision>
  <dc:subject/>
  <dc:title>PowerPoint Presentation</dc:title>
</cp:coreProperties>
</file>